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3BC-BBA4-4094-91CC-B9237444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41A-1EBA-445B-9C87-C4070E31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4367F-1E97-46DF-9AC1-23241F52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9610B-F50F-4638-9D84-6C32CDC2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EA595-531A-41E9-8C42-9710F913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13106-6049-44AD-9463-A3F0D5C4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6CBEB-4E6C-4B0F-BB14-86A7BBEC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7B380-50DC-4EF6-A1AF-CBA39144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3E9DD-ADC6-4204-B89F-446D1ACE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B1345-5CF4-487A-828C-375158AD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08BD6-CA7D-4490-95F4-0D77A7A5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7B649-C8F5-42A6-8AF4-FA9215CD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C32-4F1B-42B7-B8B2-263AD9F6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B79D6-DD2F-4412-BAE4-A1A33FEC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FF37C-C796-48F9-9167-AB1407A6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EDC74-8ABE-41A5-B151-BCA857A9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0764D-BC84-4BA0-B901-2C6094C4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C2244-AF21-46CC-AE98-6B1BE975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3A0D2-0778-490A-82EF-901A72E4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429E0-DD2C-4CF5-93C2-EC47F80B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67DA4-6040-46AC-96BB-B77EB4E0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0341E-D906-4134-AAED-993E8E0A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A79A3-1903-4995-9986-57EEB791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47B-A01D-4898-84AE-8C2636B6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11763-5B7D-4DC1-B6B5-FFDB295E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A0480-513C-4950-8387-7D921F6F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2DC3F-E86F-4FCF-9A19-7975DCF1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6EA6C-BF86-4761-9C07-95A6C4E8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9ADA3-E134-4C34-9F45-DE39C6E4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3CA11-B19B-4721-9620-AE63CC0F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4BCBA-E647-4362-AB17-A00950D8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E142B-A59B-480D-80A5-DC0B5FC3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65B09-E212-46D3-BA48-88CB72A1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88B58-3245-4C8B-8A66-1B9AF4A0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07E0-C8A7-46E0-9A1E-296DDD0B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EAE57-48A5-42DE-9C5D-DEDF8345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82C7A-DE7D-49F9-8432-B6C3489D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A214C-B2D8-4AFC-8043-09ADF736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E7CF8-E7F2-4FF3-BDA6-289004B8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9AE71-D600-471F-A0DE-C9B68CE7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0F3B3-FF25-4153-8BCB-305765E6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A52FF-0E63-45DE-8705-784DC360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C776C-D062-41FC-B819-0F3C2399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DC048-64D1-4ABE-B3A5-D69ADE5B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D6589-8A70-42D6-BF99-8F086C5D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EE0F-EA55-4233-A89B-4130D2EC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45F60-9542-4032-A168-9F7929E7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71E83-3EB6-4C01-8F91-2967D6F5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6FD78-DD92-4001-820D-0727DF80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6F1FE-4A46-420A-908D-EEB12003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3E21B-0A24-49CC-8515-B836F6D1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C449-9B3D-408E-A3E1-483AF04C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8A09-88B7-4827-A341-05E4AFBD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10F3-18BE-4602-9A7C-DC3FFB35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0CF5-D133-4B2C-A44D-0E6738D3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9DC3-7DC1-4AB1-92C9-E8EC2DD9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2DF-8AFC-46D5-86FF-700D9F62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6741-4867-40E0-A3A6-8930E13E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2241-D036-4799-B07E-C26657C4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AA50-31A0-4083-82C7-A31C22B9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2EF3-17FC-42B7-9EFE-B230F1EF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2FCD-A395-432A-ABDB-89835788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BDE23-C342-4BAD-8292-C5C83BC2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6BB34-9BC7-4E6F-AE2C-C0247F44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2C7B8-728B-4AAA-9DF4-C664213D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15462-82E5-401F-BF74-632FFEED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D2F53-CF6C-4243-AF56-22732168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EEB-5E4E-4EBB-854D-1FFCA9A7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1EFC-C336-40F5-8545-57B02384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8F294-B944-49CA-9323-5E363ECE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9A5B-9B01-4C9E-BC20-AB727D9E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83AE-E1A0-4474-8C77-9C8B5904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8C59-B9E7-4CC1-A5F2-D1247EB9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27F53-1E33-4A45-915F-1BF55200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938C0-2966-4064-9268-F93E5F1D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F0E3-F2D1-4EA6-BA79-58BB215F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A0ED-44EA-4754-853B-6E5816A3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D1441-326C-40D5-A3D6-AC90FD70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2F2-E735-4DA6-9215-1A7EC065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80707-639C-47A0-A13E-866227F0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B409B-512B-4934-BA7B-6676159E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4DDA-5E29-4EED-B4E6-C8C3E5A8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B9058-3048-43BF-A59B-7C7832AD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986EF-277C-4883-8250-667D94BA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20ED2-A1CA-4166-A02A-E8C6AF29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03C50-1D06-4473-B9F0-7832838B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E21CE-8B50-42C7-B80D-3396E698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156DD-69D7-43B0-8B19-BC4EECEF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33764-CE70-4FF4-BB17-AEF62901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E17-7D9C-4FD8-9527-D90A6E5C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3E18E-22A8-47AB-82A2-0FCE4892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A35DF-ACE4-4143-A11C-3F06BF0C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3ADD0-C69D-4B2F-B085-E2A01200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CE802-175D-4812-9C33-C7196EAF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390AE-41D7-4C9C-B1AE-4892D49B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E9EAA-A557-4F54-9749-833EBC80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D939F-15F5-4661-B436-934442F4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A2E1B-5BC8-48AA-A1E9-D32CC1E8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0C6F0-1691-4332-B8B1-739A6335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90348-F92D-4E54-91B9-584CFFAF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B3E-6A76-4FDA-BF8B-3023EA1A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FE53-EB74-4736-B7E5-443DF9BE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99EAA-4E17-4093-BBA2-32B4EB2F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36A2-2BDB-408B-A21B-F48C5A23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ED1B1-9D5C-4D1D-9EA0-1CBE49F0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CFF3B-47A5-44C5-A9E6-519DFBEA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27D69-6E8F-44DF-98D7-59E28239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C64BE-6B31-4C3F-918C-A808C128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E8FB0-58E1-4827-8666-88118722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F42B8-E7A2-4757-A55F-ED9EF072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52272-43D9-41AD-945A-840CC13A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6E9-64A7-47C5-B20E-CCE72BFC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ECEAC-ED56-4975-8681-96BC0302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D6417-CDFE-4DA5-BB65-2D7B7540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D0410-6FD1-4BBB-BCDE-24808DE0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C8922-B238-4264-82C2-C32805D4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CC58C-9F0F-4193-A257-26DA3122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43CBB-CF2F-4E95-8B3E-9AECF184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011CE-3E74-4CD2-BCAE-9FCDE77B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85357-A6E6-409C-813D-3013E135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CDF11-1F6E-4B19-A8A0-6C7D3FEB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01DE0-61CD-4EE2-BA02-34AA1680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D7C-506C-45EA-8387-3BC5076A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92C0E-2268-4DE1-8D11-3E7D6318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75B4E-1C08-4E01-9CD8-03D9419A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86DC8-091B-49DA-9F57-002CFB04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7A3A2-855E-4164-B31D-E30F93A8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B71F4-16FD-4856-A31D-017B830D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DF057-42DC-4D70-81D7-2925FF24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64EC5-5565-43B2-85DD-E0DEFFA8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6DD43-6E39-40C7-85AE-056EBCC2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258A7-D362-4BE1-B7F6-A61B54DE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8CFF2-3183-4A0D-8306-BD7F0882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767-C8F4-4731-8C5B-A854D72A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F26A7-EE49-48E8-8A63-3EC7EB78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18DB0-3264-47B8-8D1D-441F68DD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9D711-639F-4FF8-946C-1FB7B3E4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41E44-B751-47C3-9038-FD1EBD6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21D14-6662-4E33-9FFB-1E43A6EF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C1D2B-7576-47A6-A0D9-474466DD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6E6E3-3874-4DF2-ABFC-FED70100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C3919-71F0-4E67-855C-00770E73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DB7FE-CB0D-4E79-8051-AEFEA99F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D2B92-5DED-4D64-8B07-E65B1C60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8C28-7EBE-40F0-9C2C-D041E2AE525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B7EA-5BA9-42D8-AA78-E90376CAB5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6C28-CD7E-4AC8-B422-2F6F3646BA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051E-BB2D-44C5-9E9E-E4539F14E7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AD99-C971-496A-B5DF-4CCAFDFC08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A40C-1F98-4B1F-B397-86B0023DE0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40EC-553B-4E29-98AD-0BEE591244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6016-107F-4CF0-B0E9-5BABD3B9F5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3476-DDAA-428A-BBEA-B7227E314D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0071-7C45-4AC4-A536-7DFFE9A0C9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6D0-9071-4115-A136-19A6BBD9E5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EFCC-9895-43AF-9796-FB0C108CF3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6 Otče náš na neb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če náš na neb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ýva ťa veleb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ctí tvoj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dary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é nám v štedr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vaš vždy v hoj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ený bu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y Kráľ, Boží Sy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iteľ hriechu, ví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osby čuj hla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zvodom márnos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hriešnych žiados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svojej múdr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chraňuj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šiteľ sľúb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nás buď sláv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ažd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 tvoj z výs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sa rozhos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našej blízk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staneš l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ojici presvät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jednote odvek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ospev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a od več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láske a svät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svojej ver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všetkým bd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10:00:22Z</dcterms:modified>
  <cp:revision>30</cp:revision>
  <dc:subject/>
  <dc:title>Je veľký náš Pán, on slávy je Kráľ Nech do všetkých strán  spev vrúcnych znie chvál.</dc:title>
</cp:coreProperties>
</file>